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EFC-B7E0-4F57-9F5E-BCC8318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981-3545-48D9-95B6-AE7C5D7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C12-D32D-4C9B-A2DD-EA994216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59D-6420-431B-9251-F7CBA542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501-120C-4168-A9C3-66F5BAED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0CB-0590-46FA-AA67-80EA2F5F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F8E-114F-4D4D-80F9-3DE8676B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3CE-AD34-45C4-BC12-EDEAF4BB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DC3-F965-4B04-AC6C-933ABF7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3CF-93DB-4642-86E9-0C0B92EF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CC5-2F20-4401-B864-5071B46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71E-0409-4BA7-AC7E-FB52921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38F-8212-4035-89FA-768A36B244D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The Northern Renaissan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160" y="129492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friend of Era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de translations from Greek authors and wrote prose and poetry in Lat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ining example of Christian family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3414600"/>
            <a:ext cx="5111640" cy="3443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work and controversial book of his age w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to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istic life and institutions of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ary life on an island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for economic, social, and political problem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and reason replaces power and f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al ownership of property, not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orks nine hours/day and rewarded by their nee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0120" y="4267080"/>
            <a:ext cx="142848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Utopi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essing abundant leisure time and relieved of competition and 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to do wholesome and religious th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to do wholesome and enriching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relations, recreation, and travel were carefully controlled for the moral welfare of society and its member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51760" y="4114800"/>
            <a:ext cx="1992240" cy="249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was a man of conscience and gave up his life opposing England’s break with the Roman Catholic church over the divorce of King Henry VII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38520" y="1600200"/>
            <a:ext cx="388332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Christian and Northern Renaissance Humanism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rthern humanists cultivated a knowledge of the classics—a bond that united all human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focused on the sources of early Christian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ly Scriptures and writings of Augustine, Jerome, and Ambr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believed the simplicity of the religion had been distorted by complicated theological arg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Christian and Northern Renaissance Humanism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reform progr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the most important characteristic of northern hum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umans can improve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of classical and Christian antiquity would instill true inner piety and bring about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schools, brought out new editions of the classics, and prepared new editions of the B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cept of education would remain important to European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Christian or Northern Renaissance Humanism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tian humanists believe people must change before society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tian humanists have been called naïve or optimistic, contingent on point of vi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urmoil shattered much of the optim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prominent Christian humanists, Desiderius Erasmus and Thomas Mo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fluential of Christian huma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Hol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ed in one of the schools of the Brothers of Common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ed widely and conversed in 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ndbook of the Christian knigh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ed his preoccupation with 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81400" cy="46483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conception of religion: “the philosophy of Chri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ity should be guiding daily lig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ed medieval religious dogma and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ed external forms of 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craments, pilgrimages, fasts, veneration of saints, relics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d original meaning of scrip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ed the standard Latin edition of the Bible called Vul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4959360"/>
            <a:ext cx="1384560" cy="13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Erasmus, church reform would come from the spreading of the philosophy of Jesus, providing early education in Christianity, and making commonsense criticisms of church ab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rote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e Praise of Fo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orous critique of corrupt practices i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pecially harsh on the cl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56440" y="3809880"/>
            <a:ext cx="1987560" cy="274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29528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forms did not achieve the reforms he’d hop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ration and emphasis on education were overwhelmed by Reformation pa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work helped prepare the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smus laid egg that Luther hatch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smus disapproved of Protestant refo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n’t want to destroy the unity of the medieval church, just reform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638680" y="5113440"/>
            <a:ext cx="3054600" cy="174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n of London law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ined in the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uent in Greek and La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lieved in putting learning to state servic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ched high level as chancellor of Englan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014560" cy="25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0127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4:50:37Z</dcterms:created>
  <dc:creator>Susan Gregory</dc:creator>
  <dc:description/>
  <dc:language>en-US</dc:language>
  <cp:lastModifiedBy>Susan Gregory</cp:lastModifiedBy>
  <dcterms:modified xsi:type="dcterms:W3CDTF">2007-10-01T05:34:10Z</dcterms:modified>
  <cp:revision>17</cp:revision>
  <dc:subject/>
  <dc:title>PowerPoint Presentation</dc:title>
</cp:coreProperties>
</file>